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82D-54FB-4189-9A60-B320BA0F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6E0-7714-4CF1-A066-004EE06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CF8-2726-4E54-A592-DA27D4AA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9E9-F945-4E2E-AF2E-B5BC8677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83B-DBFB-45ED-996F-7ED4AF7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AED-76FE-489A-B92B-D6671C63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2C2-89DA-4D79-B6ED-2618A793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BDC-18F2-4AFD-9FD1-ABDC452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6CD-7512-40CC-A711-0B7AE5F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666-9D98-46B8-B4E4-7043ED6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26A-6851-4D7D-929F-4B3F5BD1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0A9-8578-46FF-B5E9-EE997DD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4B97-8239-4675-BB0C-80507014BE6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37F-3429-4E89-91BF-9337FBF7DA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0BE-76DC-4C70-9F73-F8FDAF7F4AB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3205080" y="968400"/>
            <a:ext cx="2090880" cy="2163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3"/>
          <a:stretch/>
        </p:blipFill>
        <p:spPr>
          <a:xfrm>
            <a:off x="2340000" y="3333600"/>
            <a:ext cx="3960720" cy="179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4"/>
          <a:stretch/>
        </p:blipFill>
        <p:spPr>
          <a:xfrm>
            <a:off x="6002280" y="1019160"/>
            <a:ext cx="2016360" cy="2112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"/>
          <p:cNvPicPr/>
          <p:nvPr/>
        </p:nvPicPr>
        <p:blipFill>
          <a:blip r:embed="rId5"/>
          <a:stretch/>
        </p:blipFill>
        <p:spPr>
          <a:xfrm>
            <a:off x="969840" y="942840"/>
            <a:ext cx="1801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191A-E522-4501-AA18-A3619DCE8719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900000" y="998640"/>
            <a:ext cx="2303640" cy="1670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3635280" y="998640"/>
            <a:ext cx="17287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tretch/>
        </p:blipFill>
        <p:spPr>
          <a:xfrm>
            <a:off x="6056280" y="998640"/>
            <a:ext cx="237636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5"/>
          <a:stretch/>
        </p:blipFill>
        <p:spPr>
          <a:xfrm>
            <a:off x="1249200" y="299412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6"/>
          <a:stretch/>
        </p:blipFill>
        <p:spPr>
          <a:xfrm>
            <a:off x="3614760" y="300528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"/>
          <p:cNvPicPr/>
          <p:nvPr/>
        </p:nvPicPr>
        <p:blipFill>
          <a:blip r:embed="rId7"/>
          <a:stretch/>
        </p:blipFill>
        <p:spPr>
          <a:xfrm>
            <a:off x="6357960" y="2976480"/>
            <a:ext cx="16034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33EF-0EDE-4F06-BE7A-2DCE58278B1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900000" y="3263760"/>
            <a:ext cx="7632720" cy="17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tt-RU" sz="1200" spc="-1" strike="noStrike">
                <a:solidFill>
                  <a:srgbClr val="000000"/>
                </a:solidFill>
                <a:latin typeface="Arial"/>
              </a:rPr>
              <a:t>Наш лицей продолжает активно участвовать в мероприятиях, приуроченных Году родных языков и народного единства. 21 октября для 1 классов была организована экскурсия на выставку, посвящённую культуре татарского народа, где выставлены проектные работы учащихся в виде национальной одежды, элементов быта, угощений, украшений.  В ходе экскурсии ребята окунулись в историю культуры татарского народа, познакомились с их бытм и традициями. Затем с ребятами был проведен мастер-класс по изготовлению броши  с элементом национального орнамента. Посещение выставки стало значимым событием для них, они с интересом восприняли новую информацию и прониклись новыми впечатлениями</a:t>
            </a:r>
            <a:r>
              <a:rPr b="0" lang="tt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3005280" y="1068480"/>
            <a:ext cx="176976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900000" y="1068480"/>
            <a:ext cx="1803600" cy="2019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4"/>
          <a:stretch/>
        </p:blipFill>
        <p:spPr>
          <a:xfrm>
            <a:off x="5076720" y="1068480"/>
            <a:ext cx="15987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5"/>
          <a:stretch/>
        </p:blipFill>
        <p:spPr>
          <a:xfrm>
            <a:off x="6932520" y="1077840"/>
            <a:ext cx="167184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Professional</cp:lastModifiedBy>
  <cp:lastPrinted>2021-02-04T07:26:50Z</cp:lastPrinted>
  <dcterms:modified xsi:type="dcterms:W3CDTF">2021-10-23T11:13:37Z</dcterms:modified>
  <cp:revision>468</cp:revision>
  <dc:subject/>
  <dc:title>Презентация PowerPoint</dc:title>
</cp:coreProperties>
</file>